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8B7-E9BD-4A11-A00C-65D5C5B4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46C-A913-4562-A254-CDA58E7C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A67D0-F4BF-457F-840D-06D056FD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B3B4E-ED3D-444E-A05B-D805F002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410BA-1C53-45D7-8A12-B3AC595A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1613D-3060-4453-B3D2-8199F842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F48D0-DFDD-4D31-B2FA-78E3A45A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8960D-0D17-4A55-839D-4F6BB0F2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DAA55-7639-48A7-ACD5-5605EF6C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46176-ACB9-4E99-9122-18BEAC5F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BE675-7CA8-4A55-B2BE-3E74E970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56E13-1950-4FA1-B73E-92ADD633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29A-BC92-4F56-9178-118A921E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5DA81-E91C-45C4-A954-2242DF1E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6A9E2-9439-40C3-9D39-CBDAF2B2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46503-777D-4881-A966-96284019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396BE-D163-4F5A-9F19-FAF36DFC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68366-ADCB-4922-BDF6-DAB3AD0A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C10E4-A0AC-411F-852D-954A5FA0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DD424-B7F8-4D99-AB62-D7BC079C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B8B4A-EBCB-4906-8F80-68BDCAE0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FA35C-2F80-4369-9D5C-10BF51B8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0FCE5-E8DF-4A9F-9EA3-81DB0C6F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BE3-896E-4A92-9643-C8ECB446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B9151-B664-4355-979A-8898B48C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B223C-1ECF-496A-B0D5-3B5F16BE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EC672-66B8-4154-B0A0-7F0830EB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39C19-9982-4143-961B-D1E57003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158A3-7631-4674-A2A5-162424A8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5E290-B8E9-4EF0-A8D7-DCDB4951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66270-A41E-4A4D-9BB9-F82A19A4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B28CB-BCD4-459D-AD00-E19C6CEB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70474-297B-4B9C-BC41-B2677E86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17E2F-2A12-4660-A833-3E8E6E4F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415D-918E-4226-974B-5A105374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9DD76-6E69-4E40-9FB2-307A1FC8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E97EE-9D73-4533-AF4D-DC393C5C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EE447-A2F4-4A44-B4A9-0FA545F8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CDC5D-4C07-43AE-B78E-D819DFFD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979CA-1EFB-48C9-9FC0-66946D0A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F30A1-1DB7-45FD-BD36-A14836C6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2680F-F7B1-4AE9-81AE-029217C1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B5DBE-DA89-48B1-9B99-BC2B6FDE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2F8DB-8549-4EA4-9445-2161C5A3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78F3A-1460-4399-9434-6227B653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0139-0F37-4A43-97CB-49CB3ADD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1A92F-904B-4C7A-B50D-FE1FA150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FA160-D703-43B1-9420-89618474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9E11A-EDFC-4984-8BF2-511B3D9A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D9433-F0FE-447A-9882-AC1823E8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28C8E-09C1-4990-83F5-5463CF7E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2FED1-F6FD-43D1-BB5A-08FE0771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CB79C-29C4-44B7-89EE-B576DB58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283A7-B3C0-42F3-B490-850B1AB7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6CF48-242B-4B23-BB9C-66E2756C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EE4C8-1443-4CAA-A65C-A71DA2FE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639B-4AC5-4729-8A73-24C5B468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FD0A7-9987-410E-B993-BF035FB9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FADCA-8F41-4D22-937A-9709BF74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35F8B-3F25-4EBB-84CA-B0918D14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54D9D-508C-437C-9E33-DB3EDF5B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BB922-07D7-473B-A89E-60F97D9B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65069-A580-48C4-903A-6C8C38AA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4083B-4FB0-49DD-B6FE-16070D7A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F583E-270A-4CC5-8D79-29F4F552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69D5E-6CE4-4D15-AAD8-EE892669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EDCEC-3EFA-4773-B082-9881D703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66D6-25CA-4951-8C4E-8F9C543A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E632E-9B65-4A19-BC87-F10C553C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B2EBF-24B3-462F-BF3E-6481D6B4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9D2354-D5C8-4009-A247-05D968EB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2947B-F3D5-47F1-ABE6-D9AAB39B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E46D1-20D3-4AED-9A9D-766FA2DC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3B59D-BC41-4C30-93B0-51041474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B5E85-2547-4DC4-9ED3-647E77D3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28694-29EE-40C8-A0CA-BFCBA398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AA2F1-3696-4E4F-8BA5-4C17103B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E5C1F9-25D9-4E07-8086-430DB54C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1F41-5C03-452B-A2F2-21435999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AB207-3343-4454-AACC-8FA179BE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622C8C-204A-4BC8-BBB5-58899287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86C9AB-0283-4343-BBAB-A0DCE9C8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144176-B07C-45E3-8DE8-2E41C09F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1EFDCE-D375-4099-96E9-22F79BB5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28B6F-5A74-4BB0-BEC8-ABEF7F0F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694476-95A9-4D4F-B5AC-821C1E61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4A4534-50F5-46E2-9335-03457F41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96AAF3-3A21-44D1-A3FF-92A9F659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57F069-64D9-4F03-A67B-142077FF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38EC-2CE0-4907-8606-CC6290CF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C5814-C59E-4A05-803E-E1526B80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216282-FDC2-4487-85CA-72E340F5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52D721-166F-4313-B428-E44B2850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FF922-B9F3-45E4-9D2C-1DB51971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63EC3A-859A-4E0E-A09B-7DC4A1C0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4D639D-D611-4CAD-A585-8735725F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580707-024E-4A20-BFE6-3C5A52F1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A4738-F6E9-4657-A1FF-57D21E2A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75856C-90A5-4B72-A1E2-3AC7BC1B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572DD2-9445-466F-814A-52CEB184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657E-E2F3-40DD-B374-8B56A5BF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D51211-ECB3-4359-9336-FC8ADBBB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D7FB25-61D2-41B1-BF53-88165BE6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8FF4C-C777-4704-9117-8F499AD4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FF55E-CF1E-4C79-B4AB-9800C68C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CB225B-E18F-4816-8BD4-2046FAA3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C9C170-6B46-45E5-A525-DC88A2F9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13293E-84B7-437B-8A46-37705022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E19051-BED8-4EAC-9C97-B684FED1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15BD4-56F0-4B82-8613-7D40AB2E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92AFF-2414-4597-BEDD-9D375801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63AD-F4EC-4081-AB97-808A8443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4F0C-C1B2-41F7-A718-4945E4B2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AD2221-6EE9-4089-B17C-AE1E40C1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E6606C-F308-4DD4-8EB1-5108C675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5F9D47-771D-4CDB-A763-03C97A1C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5BCAF-D021-49B2-A413-9BEA82BA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511A35-C485-4D20-9CE1-54ABEAB4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00E57A-AD1C-4EBE-96C1-D7865472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EE1D52-AA21-43A5-88E4-A8C6E273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A3D9E-A205-4E5E-855B-FB02D8E1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9EDB29-8329-443C-9134-8D72CF36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8DED4-C667-4E91-89D7-91610B2D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EE1D-1CBC-4371-BD69-0F3BDAB9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3B99A-2877-4FBC-999C-D8385BE3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87A61-C6CF-49C4-8D8C-23B1620D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B380F1-89A2-4448-B0BD-AD27B52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B6BE01-9AF7-4FFE-9E8D-E34D1399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504786-0D5F-4B1E-8DD0-910AFEA7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C9A4F2-9B2F-4D79-9317-96F549F4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D83B18-4144-4E12-B0B3-AB8D1274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9A3F9A-4543-4C59-9326-44E712C6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0BE51B-CEB7-4FED-A68B-4D25DBA6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02AFB-ADAC-4647-AC94-D7ECFFD0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27BF-7C40-400D-86CE-886279F1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6A7EC1-8C06-4EA1-A764-E3EA3CE8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EFC19B-5FF5-4D5A-8B09-1E56BC5F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CA8DD0-03B9-4F08-A668-761BF4EC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885CE2-9B6E-473B-A9E1-84B76039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D8B51E-F4EA-4AFB-BEF7-A0D3CADA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7B0C6B-CBE9-4242-B87A-42C5F1CA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805DF0-77D0-4216-B8E4-500E3720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7BE15-6789-4BB7-9668-54513792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032B13-5389-4021-9597-F073BD16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BAFCC-62BF-4BCE-AA5E-0562F951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335E-2D45-4395-BE68-16605E41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1C1F96-1D1A-44E8-9CB4-906214CB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A8C042-0444-4F63-AF84-F76DA0B4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D8735-A720-4A3F-87D1-A02231EB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D7C91D-3547-4E9D-8E91-BF37810E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2E05FE-A296-49AF-9D4D-B5C7E588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C38696-8983-4DB2-AA86-A1756AF9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BDC39-7D2E-45AD-8926-97961A6F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4F76A9-858D-4823-BCAD-D39EE713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0E1965-AF4F-4D5C-9FF5-DCE7D712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A7F2F4-6079-41AB-837A-BFC093B3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C87C-ACAF-422A-A81C-FD1751B7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5E9737-A186-439D-BF1C-AB248E80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3EB3B7-EF42-45A4-87D5-91FCA506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307A19-E3C6-44FB-AC7C-CDE3B44D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97F3DB-DBFA-413B-B73E-6097134E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9A5B34-7110-497B-AB9E-38D7D140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A62A76-2A9A-4BC2-8BD1-25D700BD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3875EE-DCDE-4821-9C4F-79AF017C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55C868-A829-43E4-8158-E751446B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F44435-0B58-46AF-BB16-421927BF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6DE2C8-59CB-49AB-BF70-585E4725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8CCA8-986C-40B8-9EB9-B1AC2934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6F142D-D7C8-476D-A2D3-98C97907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6DB3F8-F7E0-4778-A413-888EF882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1C75E3-99D3-475A-87C1-BE8AB36C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941E-5BCD-4CAA-BFB6-99AE97DE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97B05-0B2F-4845-87B3-D6B4CD1A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FFD23-21E2-4BC0-AC51-958482DE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21EEC-9158-45E1-A65F-4328FF2B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112-C3A5-4B76-8381-2B456DCC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23100-B5C8-40EF-B3D9-382438A3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686F5-7264-4D88-B202-D6B990F7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420A-B6A8-4BFA-921B-2CD0904C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8682B-1BBE-4811-B4BA-4945037A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4E3B9-6DB4-49DD-B18F-35E6F54F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88E8F-41D4-4E34-9528-CE559609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8621-BBE4-4699-AB9C-DA4AB9A6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CF52B-4063-4CA6-AE30-FBA84BB1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4683E-8DFC-40E3-8FA2-A4A023AD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88C2A-0167-4228-BC13-C3B06DFF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77E-D907-415F-9DC4-B7D4A995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3DB07-F6AE-4813-A1AC-7AC6A0A0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12828-65B2-40DC-AFC5-0779C4CB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9A885-EC33-404E-91A2-BBA4D428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494B5-4414-4B4B-9FA2-E3F049BE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68A8C-D62F-4DE1-BD2B-712E6303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08B8-5556-48F0-A2EE-A2E1CE25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80B66-C7B0-4217-8574-57121C79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55E9A-5919-42D9-BE19-33A66B8A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55CEE-0160-40D3-83AB-E60E8C10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86651-9D02-4898-A198-96369413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290-B097-40BE-BDAB-268735C2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39298-6C27-4882-962F-1EC5D922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07E9E-3BA4-4681-A31B-4630ECD4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0B67E-5582-4F5E-9201-C71467AC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F9989-E2B7-4FD4-8898-CB3658DF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1C294-9B16-472C-9F50-974F8ED4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C7CB0-5ED2-4DF2-BAA6-984A597F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658F6-59C2-4DEC-A7A9-4BBC086F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52284-E8AE-43B6-98DE-A25FBAE7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CFC5B-1F50-4D52-BA9C-9BC89D26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55A5E-9135-4D0A-A105-3D3750F4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05A-FE5F-4954-A1D7-7379D4EB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011D7-5529-4C02-B61D-22D1151A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91ED1-D427-4EBC-B82F-E031B192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EE64E-3FDB-4CD1-A49D-7050E0C4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487A6-EAFD-47F8-B326-75117363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A9053-6CE1-46FB-8B16-4672B5E7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B87EC-D0BF-4220-8FEB-A29B317B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164C5-1E82-49EF-A8FF-6673A5B9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3100F-090C-4DE9-86DE-D3881FB3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44760-DB3B-4CD0-A291-F0EA5F7D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811D7-72D8-41DB-B6A4-BA1A4C9A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256-9316-413E-9BC1-C27D64E6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943E1-0555-4490-935E-302B75DC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C0938-D850-4BEB-B2E2-0A8244A9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17EB-4F90-4364-BC7F-DA96B0A4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A380E-5CF3-4B15-A094-B7FEC918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ECF41-69BA-4E88-AA2F-A9F365DE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9C6B4-59D5-4B1D-A122-D92E7B17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8BC62-4130-4929-ADBB-48650810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4A064-3CDD-4A68-B906-A116B9DF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07F3F-FBC9-43E6-861F-54AD53CD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68BAD-D6A7-421F-BD14-DCEA5E5E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88D-69CF-4479-878D-B63046B4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7A37B-AD21-4B8D-A566-16AE7A69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8E434-0FDA-4E1A-9702-36E72CD4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F2FF0-C587-45FF-8D57-E3F9CFB0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02340-462D-4E74-8D54-948CB848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1AD26-43F4-4BAC-96BC-19D00638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C773D-4598-48C9-BC3C-F5853F71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329EF-5626-4335-9821-72176E04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CB79D-F919-4082-8A6E-7BCCCEF3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E75E8-574C-4AC2-A414-D15B794C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AEE70-F8D2-4F75-A4FD-4F443773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A84-D9F8-4B4F-BE0E-85C36E1F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98B58-1D85-4191-923B-1CC34DD8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152CC-C8F8-49F4-BBEC-D7687863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75884-FF27-4011-B50C-FDBF32F4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D838A-5EBD-41B7-A2B6-82DB8B65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3EE48-5CDE-4E80-91FD-D62511DC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8AA48-61C2-4755-8D1E-FFC3566C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9D905-BE92-4564-8318-E35B7046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3BAC3-2A65-44CC-BEEE-75193CDC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039DB-E637-42AE-AC17-926CBB96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DF76A-7070-4821-8D92-402097AC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D574-44D8-44B9-AC58-A7DB269CA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D539-B498-43B9-BE9F-1D6F7BA421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0AAB-663F-4A87-A396-19D05FFA13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8339-0BB8-4714-B7E8-F2F0DA800F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B2F9-200E-4EC2-AC05-F481BADCDF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8584-19DC-4390-8A47-9DC115F0D7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2E42-3EBC-4591-84A8-5F9391D355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8B51-C473-4234-8B08-1CECC27C08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205A-A0A5-4537-97EF-5A4DF158C5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E8B2-D482-4B2F-B3F6-B3F109C258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0A54-8A24-4332-9160-BCB61C3B2F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B4AF-B1F7-4AC4-A14A-54CAFAB8E9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9BF8-0B9A-41A8-829B-B55D2E546F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150B-A45F-4F52-870A-A2DC1DCF51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882C-6743-4957-98D3-909D2C59C1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6D8B-D95D-4EB2-B600-50637E1063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BF9A-E0D0-4AFB-BBBA-878A7C8C2D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4DC4-EAC5-44E1-9B06-5B7F9037BF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ABCF-8A1C-4644-A818-F5A4BA4B8C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0B44-D5CD-49C6-98D3-68CCA3633D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2BD3-4B02-4A0C-A778-C87CAC2407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4F42-57BA-4497-8D9B-3FBECCC37D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5CD6-4CFB-4376-A618-7A76D392A9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F962-997C-4ED6-8B7E-DB0217E3AC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F76E-D0D1-4638-A7FD-847E05F351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7F13-4267-424E-B70D-D0256FB8C9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2005-7FA7-45B5-B638-8BA7F261D3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74A9-6258-4438-8AF0-A391D2964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055A-6172-4C90-BF29-0C3ABE6997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D538-7073-477E-ADAF-2ADF4F1888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A126-D7F3-4DBD-97F2-D76E8B0A6F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D04C-BE44-4228-87B9-A6802142EE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3D71-3C5E-4C3E-91B1-BFFC61E6CA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AC31-768D-486A-9898-21856840C4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D8A6-745F-4FB3-81D7-A9EC705D55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B4E1-4546-41C5-81F3-02DCD30109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2D8B-0955-4296-8F26-D315017AB0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2AED-C9CE-4691-B0D0-FF10091E75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11CE-B38E-4D15-96E8-AD38E6B75E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2EEB-7FED-41EA-9484-0DB46A3C7B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3986280" y="3157560"/>
            <a:ext cx="1171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58040" cy="5543640"/>
          </a:xfrm>
          <a:prstGeom prst="rect">
            <a:avLst/>
          </a:prstGeom>
          <a:ln w="0">
            <a:noFill/>
          </a:ln>
        </p:spPr>
      </p:pic>
      <p:sp>
        <p:nvSpPr>
          <p:cNvPr id="1043" name="矩形 2"/>
          <p:cNvSpPr/>
          <p:nvPr/>
        </p:nvSpPr>
        <p:spPr>
          <a:xfrm>
            <a:off x="1071720" y="1214280"/>
            <a:ext cx="75009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3"/>
          <p:cNvSpPr/>
          <p:nvPr/>
        </p:nvSpPr>
        <p:spPr>
          <a:xfrm>
            <a:off x="857160" y="1643040"/>
            <a:ext cx="7715520" cy="345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4"/>
          <p:cNvSpPr/>
          <p:nvPr/>
        </p:nvSpPr>
        <p:spPr>
          <a:xfrm>
            <a:off x="785880" y="2143080"/>
            <a:ext cx="10620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5"/>
          <p:cNvSpPr/>
          <p:nvPr/>
        </p:nvSpPr>
        <p:spPr>
          <a:xfrm>
            <a:off x="1046160" y="3508200"/>
            <a:ext cx="1919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6"/>
          <p:cNvSpPr/>
          <p:nvPr/>
        </p:nvSpPr>
        <p:spPr>
          <a:xfrm>
            <a:off x="1214280" y="4857840"/>
            <a:ext cx="278640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7"/>
          <p:cNvSpPr/>
          <p:nvPr/>
        </p:nvSpPr>
        <p:spPr>
          <a:xfrm>
            <a:off x="1071720" y="5786280"/>
            <a:ext cx="191916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61880" y="714240"/>
            <a:ext cx="82202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52520" y="728640"/>
            <a:ext cx="8238960" cy="540072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1000080" y="21430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928800" y="300024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4"/>
          <p:cNvSpPr/>
          <p:nvPr/>
        </p:nvSpPr>
        <p:spPr>
          <a:xfrm>
            <a:off x="928800" y="392904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5"/>
          <p:cNvSpPr/>
          <p:nvPr/>
        </p:nvSpPr>
        <p:spPr>
          <a:xfrm>
            <a:off x="928800" y="485784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6"/>
          <p:cNvSpPr/>
          <p:nvPr/>
        </p:nvSpPr>
        <p:spPr>
          <a:xfrm>
            <a:off x="1000080" y="57150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3437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96200" cy="594360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1000080" y="350028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928800" y="528624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"/>
          <p:cNvPicPr/>
          <p:nvPr/>
        </p:nvPicPr>
        <p:blipFill>
          <a:blip r:embed="rId1"/>
          <a:stretch/>
        </p:blipFill>
        <p:spPr>
          <a:xfrm>
            <a:off x="419040" y="1809720"/>
            <a:ext cx="8305920" cy="3238560"/>
          </a:xfrm>
          <a:prstGeom prst="rect">
            <a:avLst/>
          </a:prstGeom>
          <a:ln w="0">
            <a:noFill/>
          </a:ln>
        </p:spPr>
      </p:pic>
      <p:sp>
        <p:nvSpPr>
          <p:cNvPr id="1035" name="矩形 2"/>
          <p:cNvSpPr/>
          <p:nvPr/>
        </p:nvSpPr>
        <p:spPr>
          <a:xfrm>
            <a:off x="928800" y="19288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3"/>
          <p:cNvSpPr/>
          <p:nvPr/>
        </p:nvSpPr>
        <p:spPr>
          <a:xfrm>
            <a:off x="928800" y="371484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423720" y="1614600"/>
            <a:ext cx="8296560" cy="362880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857160" y="164304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447840" y="905040"/>
            <a:ext cx="824832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3" descr=""/>
          <p:cNvPicPr/>
          <p:nvPr/>
        </p:nvPicPr>
        <p:blipFill>
          <a:blip r:embed="rId1"/>
          <a:stretch/>
        </p:blipFill>
        <p:spPr>
          <a:xfrm>
            <a:off x="428760" y="914400"/>
            <a:ext cx="8286480" cy="5029200"/>
          </a:xfrm>
          <a:prstGeom prst="rect">
            <a:avLst/>
          </a:prstGeom>
          <a:ln w="0">
            <a:noFill/>
          </a:ln>
        </p:spPr>
      </p:pic>
      <p:sp>
        <p:nvSpPr>
          <p:cNvPr id="1041" name="矩形 2"/>
          <p:cNvSpPr/>
          <p:nvPr/>
        </p:nvSpPr>
        <p:spPr>
          <a:xfrm>
            <a:off x="1143000" y="5475240"/>
            <a:ext cx="2643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7:1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